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8563-94E0-40FB-9884-57718359D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05C-D55B-4BEC-A72B-9A8704EBB4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0226-DD0D-42AF-8F6D-039FB25977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D45D-D5C3-4EC1-BCAD-70CB78735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E91D-B44B-4EF2-9F9B-18F8F9AEAC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C4A-EA32-4F3B-A1B8-55A3AB9E15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нравств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неразумного отношения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од для оптим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21B9-EAD4-4CC2-AD77-CCD72D428C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7967-517F-4893-8EE4-DBEF52EB74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A014-9B93-47BB-B5E5-FE5E0DC645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56E-F785-4778-9FBA-784BF9077A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ая катастрофа                                                                                           наступ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ш век хват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,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нас хоть пото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недооценивающие опасность экологического кризиса, говорят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2A2-F543-47AD-9D87-D3461877CB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15B6-C606-415E-AABB-6F3B600530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 наступ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B47D-EDC0-4A9B-A6F9-0FA516D4A9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E1F-2B7C-4D9E-89A1-0B4DFA20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6EA-FA91-45C6-93BA-FB69ED1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FEB-080B-4350-BC81-72030BFC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35D-59C2-4DDF-A8A5-83EA2EEF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2F0C4-B3E8-463E-AB4A-E3439D1A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D6980-1472-44B1-9265-58650FD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CED52-166E-4788-8D4A-8B082096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5FC4B-791C-4B44-8C7F-91F2727B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F5ED0-BAE8-44E0-B96A-73B052D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E322F-6985-491A-9874-9356177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4B266-6992-4EAD-9002-1934B2AE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2B57-80DF-48A9-B4CB-A0553A7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07F33-E7B6-48A2-BE68-7C817F37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342B8-97D2-4D2E-91EC-69B5DCA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7F96-5F87-4712-A320-F41E747A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ED00B-32E0-48BC-A4EE-BE4F0B49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86BD9-37BE-4902-8EFA-1DB326AF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762-4555-47A2-B5B3-56CB940F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1FD-4E24-45DA-ACFD-0DD86FAB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D72-267D-48BD-A279-274FC9E8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C24-4294-41B9-BB3B-F3674162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753-B043-47DB-AF37-BE6FD32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0DD-0A33-452E-9635-91769F0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4305-4E37-4819-B572-88EF4BA1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EDAD-416E-4A6A-86A8-8057A91C5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89BA-6D46-423E-A6C0-5BB1F0C718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шей стране также растёт число тех, кто активно выступает за оздоровление экологической обстановки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России были многочисленные выступления в защиту озера Байкал, когда люди протестовали против строительства на нем целлюлозно-бумажного комбина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орошения всё новых земель под хлопчатник стали забирать воду из рек Сырдарьи и Амударьи. Реки обмелели, засолилось Аральское море. Начались соляные бури. И тут пришли к мысли о переброске сибирских рек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иозерске был закрыт мебельный комбинат, приостановлено осуществление проекта переброски 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годня каждому из нас стоит задуматься, какие нравственные требования предъявляет сложившаяся экологическая ситуация к людям, какой собственный вклад мы могли бы внести в дело защиты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я и нравственност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дствия неразумного отношения к природ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од для оптимиз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дной из публикаций в журнале «Знание – сила», содержащей размышления о причинах, порождающих экологический кризис, приведён следующий пример: «Несколько десятилетий тому назад подняли целинные земли. Сделали это не задумываясь о роли почвы в биосфер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 распахивают степь сплошь в то время как можно лишь полосами. Лесопосадки тоже оказались лишн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ди уничтожили уникальные сообщества трав, животных, насекомых. В большом количестве исчезли овцы, лошади, коровы. Нет прежнего режима почв. Нет скотоводства. Происходят страшные пыльные бу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худшение экологической обстановки в данной местности происходит не из-за отсутствия современной техники, а из-за неумелого ведения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                                                                                          наступае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ногие люди в отношении с экологией строят свое поведение в соответствии с эгоистическими принципами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наш век хвати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,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 нас хоть пот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юди, недооценивающие опасность экологического кризиса, говорят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у, в городах вода и воздух, конечно, неважные, а стоит отъехать на пару десятков километров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ологи и геологи говорят о наступившей беде с конкретными цифрами в руках. Писатели-фантасты изображают будущее человечества: безжизненная, изгаженная, обезображенная земля и человек, превратившийся из властелина в изгоя, вынужденный отыскивать для жизни клочки, оазисы еще не окончательно отравленной план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кологическая катастрофа наступи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9" descr="8"/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1981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6"/>
          <p:cNvPicPr/>
          <p:nvPr/>
        </p:nvPicPr>
        <p:blipFill>
          <a:blip r:embed="rId3"/>
          <a:stretch/>
        </p:blipFill>
        <p:spPr>
          <a:xfrm>
            <a:off x="457200" y="4114800"/>
            <a:ext cx="3962520" cy="220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12"/>
          <p:cNvPicPr/>
          <p:nvPr/>
        </p:nvPicPr>
        <p:blipFill>
          <a:blip r:embed="rId4"/>
          <a:stretch/>
        </p:blipFill>
        <p:spPr>
          <a:xfrm>
            <a:off x="4648320" y="1981080"/>
            <a:ext cx="4114800" cy="1981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2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2209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логическая катастроф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инство людей, все больше проникаясь чувством ответственности перед грядущим поколением, перед всем живущим на Земле, понимают, что сейчас уже недостаточно произносить пылкие слова в защиту прир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яде зарубежных стран отдельные группы людей объединились в защиту окружающей среды, образовали парти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елены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58:51Z</dcterms:created>
  <dc:creator>Ирина Николаевна</dc:creator>
  <dc:description/>
  <dc:language>en-US</dc:language>
  <cp:lastModifiedBy>LEGION</cp:lastModifiedBy>
  <dcterms:modified xsi:type="dcterms:W3CDTF">2015-05-06T08:15:19Z</dcterms:modified>
  <cp:revision>25</cp:revision>
  <dc:subject/>
  <dc:title>Экология и нравственность</dc:title>
</cp:coreProperties>
</file>